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0C83-FA52-4968-B074-A78F5341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F85E-C81F-49D3-805D-B0AD9164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840D-1534-409B-B50A-74B325F0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36F2-C33F-44F9-AB64-594820A0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83E6-0593-4BB6-BE68-C8C5696E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43F1-C94C-4911-BBE1-550F6259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51F3-1C79-403A-9F34-E5F3CCDD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DA9B-7A53-43CF-94B3-4B88C88A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5C32-B297-4F04-8CDB-EF0324F9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6AE4-1CC3-4FC5-8590-DBC4ABC5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19C6-BCA5-4666-B17C-03564B45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4CAE-0679-4FE6-903D-07A1B01C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F0D4-9204-4BBD-A482-E0E3F7B6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FD20-A3EA-432D-B44C-3D1606A7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A868-BECA-4CD4-9E66-D7DD3A92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DABB-B55C-4899-97CF-6108EF73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BCBF-C914-45B5-9803-B57468B6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75C-BE97-4FDE-810F-53EA73D1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2805-B45D-40E7-9D1C-40A88C25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009-344A-48CE-8E9C-8AD843F4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EF08-7FCA-4DE0-8705-9B60B837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32F-B0E0-4267-844A-1DBE08EE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0A23-3045-45DC-9945-30AD1AF6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33D-6E8A-4DA6-B141-B3F9518B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Juice ITC"/>
              </a:rPr>
              <a:t>Click to edit the title text format</a:t>
            </a: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0066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Juice ITC"/>
              </a:rPr>
              <a:t>Click to edit the outline text format</a:t>
            </a: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  <a:p>
            <a:pPr lvl="1" marL="653760" indent="-251280">
              <a:spcBef>
                <a:spcPts val="1001"/>
              </a:spcBef>
              <a:buClr>
                <a:srgbClr val="ff0066"/>
              </a:buClr>
              <a:buFont typeface="Juice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Juice ITC"/>
              </a:rPr>
              <a:t>Second Outline Level</a:t>
            </a: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  <a:p>
            <a:pPr lvl="2" marL="1005840" indent="-200880">
              <a:spcBef>
                <a:spcPts val="1001"/>
              </a:spcBef>
              <a:buClr>
                <a:srgbClr val="ff0066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Juice ITC"/>
              </a:rPr>
              <a:t>Third Outline Level</a:t>
            </a: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  <a:p>
            <a:pPr lvl="3" marL="1407960" indent="-200880">
              <a:spcBef>
                <a:spcPts val="1001"/>
              </a:spcBef>
              <a:buClr>
                <a:srgbClr val="ff0066"/>
              </a:buClr>
              <a:buFont typeface="Juice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Juice ITC"/>
              </a:rPr>
              <a:t>Fourth Outline Level</a:t>
            </a: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  <a:p>
            <a:pPr lvl="4" marL="1810440" indent="-200880">
              <a:spcBef>
                <a:spcPts val="1001"/>
              </a:spcBef>
              <a:buClr>
                <a:srgbClr val="ff0066"/>
              </a:buClr>
              <a:buFont typeface="Juice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Juice ITC"/>
              </a:rPr>
              <a:t>Fifth Outline Level</a:t>
            </a: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Juice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Juice ITC"/>
              </a:rPr>
              <a:t>Sixth Outline Level</a:t>
            </a: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Juice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Juice ITC"/>
              </a:rPr>
              <a:t>Seventh Outline Level</a:t>
            </a: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B507-66AA-47D5-96FA-9C3920969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604A-04CF-416B-9348-70D1502C8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Ravie"/>
              </a:rPr>
              <a:t>What Do You See</a:t>
            </a:r>
            <a:endParaRPr b="0" lang="en-US" sz="96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Ravie"/>
              </a:rPr>
              <a:t>By Taryn Gillespie</a:t>
            </a:r>
            <a:endParaRPr b="0" lang="en-US" sz="4800" spc="-1" strike="noStrike">
              <a:solidFill>
                <a:srgbClr val="ff0066"/>
              </a:solidFill>
              <a:latin typeface="Juice IT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Juice ITC"/>
              </a:rPr>
              <a:t>Thanks for watching and being in my experiment!!!!!</a:t>
            </a:r>
            <a:endParaRPr b="0" lang="en-US" sz="54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</a:t>
            </a: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blue_rotational_500x437"/>
          <p:cNvPicPr/>
          <p:nvPr/>
        </p:nvPicPr>
        <p:blipFill>
          <a:blip r:embed="rId1"/>
          <a:stretch/>
        </p:blipFill>
        <p:spPr>
          <a:xfrm>
            <a:off x="685800" y="298440"/>
            <a:ext cx="6705720" cy="6102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7467480" y="0"/>
            <a:ext cx="1676520" cy="83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k at the center 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+ and move your head in and out does the circle mo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4876920" y="838080"/>
            <a:ext cx="36576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crazy_optical_illusions_old"/>
          <p:cNvPicPr/>
          <p:nvPr/>
        </p:nvPicPr>
        <p:blipFill>
          <a:blip r:embed="rId1"/>
          <a:stretch/>
        </p:blipFill>
        <p:spPr>
          <a:xfrm>
            <a:off x="533520" y="152280"/>
            <a:ext cx="7848360" cy="5877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"/>
          <p:cNvSpPr/>
          <p:nvPr/>
        </p:nvSpPr>
        <p:spPr>
          <a:xfrm>
            <a:off x="609480" y="624852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Optical Illusion"/>
          <p:cNvPicPr/>
          <p:nvPr/>
        </p:nvPicPr>
        <p:blipFill>
          <a:blip r:embed="rId1"/>
          <a:stretch/>
        </p:blipFill>
        <p:spPr>
          <a:xfrm>
            <a:off x="152280" y="228600"/>
            <a:ext cx="7010640" cy="5205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80880" y="57150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Optical Illusion"/>
          <p:cNvPicPr/>
          <p:nvPr/>
        </p:nvPicPr>
        <p:blipFill>
          <a:blip r:embed="rId1"/>
          <a:stretch/>
        </p:blipFill>
        <p:spPr>
          <a:xfrm>
            <a:off x="914400" y="152280"/>
            <a:ext cx="7381800" cy="43228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1066680" y="5181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se lines stra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Optical Illusion"/>
          <p:cNvPicPr/>
          <p:nvPr/>
        </p:nvPicPr>
        <p:blipFill>
          <a:blip r:embed="rId1"/>
          <a:stretch/>
        </p:blipFill>
        <p:spPr>
          <a:xfrm>
            <a:off x="152280" y="152280"/>
            <a:ext cx="7086600" cy="4989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066680" y="55627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legs do you see on this eleph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Optical Illusion"/>
          <p:cNvPicPr/>
          <p:nvPr/>
        </p:nvPicPr>
        <p:blipFill>
          <a:blip r:embed="rId1"/>
          <a:stretch/>
        </p:blipFill>
        <p:spPr>
          <a:xfrm>
            <a:off x="380880" y="228600"/>
            <a:ext cx="4381560" cy="46483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5715000" y="22860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blue side on the front or the back of the cube on your first loo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Optical Illusion"/>
          <p:cNvPicPr/>
          <p:nvPr/>
        </p:nvPicPr>
        <p:blipFill>
          <a:blip r:embed="rId1"/>
          <a:stretch/>
        </p:blipFill>
        <p:spPr>
          <a:xfrm>
            <a:off x="304920" y="228600"/>
            <a:ext cx="371448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5181480" y="1219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black rectangle is the bigg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Optical Illusion"/>
          <p:cNvPicPr/>
          <p:nvPr/>
        </p:nvPicPr>
        <p:blipFill>
          <a:blip r:embed="rId1"/>
          <a:stretch/>
        </p:blipFill>
        <p:spPr>
          <a:xfrm>
            <a:off x="533520" y="228600"/>
            <a:ext cx="5333760" cy="4203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057400" y="52578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tep is the low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3:57:46Z</dcterms:created>
  <dc:creator>USD376</dc:creator>
  <dc:description/>
  <dc:language>en-US</dc:language>
  <cp:lastModifiedBy>USD376</cp:lastModifiedBy>
  <dcterms:modified xsi:type="dcterms:W3CDTF">2011-01-26T16:55:28Z</dcterms:modified>
  <cp:revision>6</cp:revision>
  <dc:subject/>
  <dc:title>What Do You See</dc:title>
</cp:coreProperties>
</file>